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A032-D761-4357-97DD-453AD614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F6B-BC76-4D98-95AF-D76291ED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F909-D337-4A7E-9E43-29735CE7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B982-A925-4D0A-A7AD-4A27266C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BEE-68D0-4007-A8EA-4D625706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CA75-8691-445E-8F86-23274EC2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EC4A-E8D8-497D-AA46-E3128F92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CFF4-D353-4D3B-A3C8-D32BF316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21CF-9B87-4A9A-B93D-C05C999F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6D73-0B63-4E23-A34A-AE714689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3431-8B19-4A71-B6C4-D0CD28A2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4F53-A248-44EE-B972-B6543840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D563-AA8A-453A-ADCC-8FBB14CA3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نا : الضمير المشترك بين النصب والجر والرف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أمثل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رب</a:t>
            </a:r>
            <a:r>
              <a:rPr b="0" lang="hi-IN" sz="3200" spc="-1" strike="noStrike">
                <a:solidFill>
                  <a:srgbClr val="cc3300"/>
                </a:solidFill>
                <a:latin typeface="Arial"/>
              </a:rPr>
              <a:t>ن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لا تؤاخذ</a:t>
            </a:r>
            <a:r>
              <a:rPr b="0" lang="hi-IN" sz="3200" spc="-1" strike="noStrike">
                <a:solidFill>
                  <a:srgbClr val="cc3300"/>
                </a:solidFill>
                <a:latin typeface="Arial"/>
              </a:rPr>
              <a:t>ن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إن نسيْ</a:t>
            </a:r>
            <a:r>
              <a:rPr b="0" lang="hi-IN" sz="3200" spc="-1" strike="noStrike">
                <a:solidFill>
                  <a:srgbClr val="cc3300"/>
                </a:solidFill>
                <a:latin typeface="Arial"/>
              </a:rPr>
              <a:t>ن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كرمَ</a:t>
            </a:r>
            <a:r>
              <a:rPr b="0" lang="hi-IN" sz="3200" spc="-1" strike="noStrike">
                <a:solidFill>
                  <a:srgbClr val="cc3300"/>
                </a:solidFill>
                <a:latin typeface="Arial"/>
              </a:rPr>
              <a:t>ن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علي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قدس ل</a:t>
            </a:r>
            <a:r>
              <a:rPr b="0" lang="hi-IN" sz="3200" spc="-1" strike="noStrike">
                <a:solidFill>
                  <a:srgbClr val="cc3300"/>
                </a:solidFill>
                <a:latin typeface="Arial"/>
              </a:rPr>
              <a:t>ن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ضمائر المنفصل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ضمائر الرفع مثل : أنا،هو،هما ،هي ،هن،أنتما،أنتم أنت ...ال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ضمير النصب (</a:t>
            </a:r>
            <a:r>
              <a:rPr b="0" lang="hi-IN" sz="3200" spc="-1" strike="noStrike">
                <a:solidFill>
                  <a:srgbClr val="cc3300"/>
                </a:solidFill>
                <a:latin typeface="Arial"/>
              </a:rPr>
              <a:t>إيا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مثل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:اياك نعب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3300"/>
                </a:solidFill>
                <a:latin typeface="Arial"/>
              </a:rPr>
              <a:t>إيا: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ضمير منفصل مبني في محل نصب مفعول به مقدم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3300"/>
                </a:solidFill>
                <a:latin typeface="Arial"/>
              </a:rPr>
              <a:t>الكاف :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حرف خطاب لا محل له في الاعرا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ومثل هذا المثال في الإعراب : </a:t>
            </a:r>
            <a:r>
              <a:rPr b="0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إياك أعني واسمعي يا جار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1:04:06Z</dcterms:created>
  <dc:creator>admin</dc:creator>
  <dc:description/>
  <dc:language>en-US</dc:language>
  <cp:lastModifiedBy>admin</cp:lastModifiedBy>
  <dcterms:modified xsi:type="dcterms:W3CDTF">2007-03-06T01:06:01Z</dcterms:modified>
  <cp:revision>2</cp:revision>
  <dc:subject/>
  <dc:title>نا : الضمير المشترك بين النصب والجر والرفع </dc:title>
</cp:coreProperties>
</file>